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0D8-DFFC-4055-8778-4C0D15FE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131-00BB-4BE3-9FEE-7CECA6C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BBF-C105-4E60-A668-C154CC43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964-356C-4EA0-B72C-C0984AAC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404-1EDC-4429-8F9F-759BE336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38F-F860-47B2-AC16-02608054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56D-AFAB-469B-9A47-F3CBFFB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B70-F5EB-4EF3-8791-71256A7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07E-9466-4D4C-B833-B70AA1E4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262-EA56-4117-8E3B-4AD71A6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F51-E8D7-4122-9FD1-360CFB9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B7F-4F07-4721-8C75-609E9C9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255-5F56-4FE9-93AE-4FD859B1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Jo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Cheok F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ng Shao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ng Jia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an 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3352680"/>
            <a:ext cx="2666880" cy="2590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houting out the answer or the question will be ski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be chosen at random by Ryan and Cheok F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joke is answered CORRECTLY, the participant will get a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ing harder questions will get you a better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0:25:12Z</dcterms:created>
  <dc:creator>Rosyth School</dc:creator>
  <dc:description/>
  <dc:language>en-US</dc:language>
  <cp:lastModifiedBy>Rosyth School</cp:lastModifiedBy>
  <dcterms:modified xsi:type="dcterms:W3CDTF">2011-10-25T00:37:30Z</dcterms:modified>
  <cp:revision>2</cp:revision>
  <dc:subject/>
  <dc:title>Q&amp;A Jokes!</dc:title>
</cp:coreProperties>
</file>